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DDD-D9D4-40CC-82D2-D255317D3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f time is short, learners could choose fewer words/sentences. After writing the sentences, groups could swap to correct and comment on the sente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3D06-288C-478A-955C-8DEF483500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then read and suggest corrections for each others’ letters. They can then find the addresses and send them to the NG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F20-2FAE-465D-BF66-2CC8282ABA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about 2.5 – 3 hours: quiz – 20 mins; reading 1 – 15 mins; jigsaw reading – 20-30 mins; vocab – 10 mins; grammar – 20–30 mins; writing – 20–40 m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99D4-0AB2-420D-9E27-D5745DDEE15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2/b  3/c  4/b  5/b  6/b  7/a  8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C142-1682-4DE5-889E-4CF9831047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rticle B (“Development pornography”) is the shortest and could be given to slower r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098F-3076-48D2-91F5-6C5AA310937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1/e  2/c  3/h  4/f  5/b  6/g  7/d  8/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AC6C2-466B-49C4-8E78-D586F540097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KEY:  1/c   2/a  3/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BD19-D91E-4032-8F34-BA72DB2BDC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A06-EA5F-495F-AF5A-BC7925A2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331-B38B-4625-98E1-EB3F6EAB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C63-0D1C-45DF-BFDB-033323F4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B8A-8E87-42F3-9545-401CD6DC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2712-90AC-4198-B6D9-A3C8C628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795-060F-454F-BBAF-CFACCBBA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B724-9A6A-4A3C-9AA1-E7899E80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EA32-C0A6-4B92-ACC2-A768216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4B5-73B7-4258-B934-296F7E82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0D6C-3EFF-4834-B427-4341C6D3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C903-2AAF-411C-A858-2310F9B4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6DC-05E8-4844-BD72-1AF9D663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b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7335-048D-4D09-9380-D38577BF728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NGOs_-_do_they_help%3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%22Development_pornography%22_-_using_photos_to_get_people_to_give_money_to_charity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0" y="2636640"/>
            <a:ext cx="813564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000000"/>
                </a:solidFill>
                <a:latin typeface="Calibri"/>
              </a:rPr>
              <a:t>Charities and NGO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280" y="5229360"/>
            <a:ext cx="81374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NEW INTERNATIONALIST  EASIER ENGLIS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PER INTERMEDIATE READY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000160" cy="2828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3276720" y="404640"/>
            <a:ext cx="5578200" cy="14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27628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CONSERVATION, POACHING, CARBON TRADING, BIODIVERSITY, FUNDRAISING, PORNOGRAPHY, DONATIONS, SWEATSHO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475920"/>
            <a:ext cx="8496000" cy="18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Now, in groups, write 8 conditional sentences about NGOs/charities, using one of the words/phrases in each sentence – you can look back at the articles you read – starting “If …..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6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Write a letter in pair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916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a/ Choose one of the NGOs to write to (you could do some Internet research too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b/ Thank them for all the good work they have been do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c/ Tell them about some of the problems with their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d/ Ask them what they plan to do about this, and/or make sugges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030a0"/>
                </a:solidFill>
                <a:latin typeface="Calibri"/>
              </a:rPr>
              <a:t>e/ Send your lette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315120" y="260280"/>
            <a:ext cx="24861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b05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125360"/>
            <a:ext cx="84358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Now read the texts you didn’t read in the less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:</a:t>
            </a:r>
            <a:r>
              <a:rPr b="1" lang="en-GB" sz="23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:</a:t>
            </a:r>
            <a:r>
              <a:rPr b="1" lang="en-GB" sz="21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: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Calibri"/>
              </a:rPr>
              <a:t>And, at the bottom of each text, click on the original article and read that too – you will find it a lot easier, because you already understand 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lesson today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1341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ff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Quiz – discuss in pai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206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Calibri"/>
              </a:rPr>
              <a:t>Read – check quiz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Jigsaw reading – read and discu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7030a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Vocabulary – discuss and match defini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c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Grammar – use vocabulary to write sentences using condition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b0f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f0"/>
                </a:solidFill>
                <a:latin typeface="Calibri"/>
              </a:rPr>
              <a:t>Writing – a letter to one of the N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19700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1/ What is an 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New Government Office      b) Not a Government Office              c) Non-Governmental Organis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2/ When did people first use the phrase “NGO”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1910                 b) 1945                  c) 1962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3/ How many NGOs are there now in the US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500, 000           b) 1,000,000        c) 1,500,000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4/ What’s a BINGO?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a) a game to win money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b) a Big International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Calibri"/>
              </a:rPr>
              <a:t>c) a Broadly Interesting NGO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883560" y="4437000"/>
            <a:ext cx="2081160" cy="29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00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33336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5/ Which country has the world’s largest NGOs?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 US            b) Bangladesh                 c) the Philippine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6/ In Bangladesh and the Philippines, the NGOs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 solve all the problem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 with some problems but don’t help with the basic problems of inequality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do nothing to help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7/ NGOs have achieved a lo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helped stop slavery, ban landmines and fought for human right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helped with war crimes in Israel and Palestine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helped societies become more equa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8/ The main problem with NGOs is that: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a) they play bingo too much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b) they are too closely linked to politics, by money and contro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000000"/>
                </a:solidFill>
                <a:latin typeface="Calibri"/>
              </a:rPr>
              <a:t>c) they change too many thing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ow read this to check your answer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NGOs_-_do_they_help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1104840" y="2421000"/>
            <a:ext cx="6405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Jigsaw reading: divide the class into 3 groups: A, B and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55736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Everyone make notes on 5 important points: do NGOs really help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A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db5353"/>
                </a:solidFill>
                <a:uFillTx/>
                <a:latin typeface="Calibri"/>
                <a:hlinkClick r:id="rId1"/>
              </a:rPr>
              <a:t>http://eewiki.newint.org/index.php/%22Development_pornography%22_-_using_photos_to_get_people_to_give_money_to_charity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B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ttp://eewiki.newint.org/index.php/%22Development_pornography%22_-_using_photos_to_get_people_to_give_money_to_char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000000"/>
                </a:solidFill>
                <a:latin typeface="Calibri"/>
              </a:rPr>
              <a:t>Group C read thi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http://eewiki.newint.org/index.php/Charities_and_busi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6049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Speaking: get into groups of at least one A, one B and one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Do NGOs really help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good things do they do? Where? Whe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What are the problems with NGO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030a0"/>
                </a:solidFill>
                <a:latin typeface="Calibri"/>
              </a:rPr>
              <a:t>How could they work better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72120" y="1413000"/>
            <a:ext cx="286380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n the same groups, match these words to the defini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7640" y="1267920"/>
            <a:ext cx="287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/ conser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/ po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3/ carbon tr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4/ bio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5/ fundrai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6/ porn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7/ do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8/ sweatsho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32000" y="1484280"/>
            <a:ext cx="590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actories with bad work condi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tting money for char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illing wild animals illeg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ney people give to cha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oking after nature and ani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ll the variety in the natural wor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ctures or videos of s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ing and selling credits to be allowed to release more CO2 (carbon dioxi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ember conditionals? – mat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413000"/>
            <a:ext cx="4038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1)  1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st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people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giv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oney to charity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2) 2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n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NGOs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er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not so close to big busines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3</a:t>
            </a:r>
            <a:r>
              <a:rPr b="0" lang="en-GB" sz="3200" spc="-1" strike="noStrike" u="sng" baseline="30000">
                <a:solidFill>
                  <a:srgbClr val="000000"/>
                </a:solidFill>
                <a:uFillTx/>
                <a:latin typeface="Calibri"/>
              </a:rPr>
              <a:t>rd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conditiona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WWF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hadn’t force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ople to leave their la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 be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be more independ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wouldn’t have been abl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create a wildlife pa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 </a:t>
            </a:r>
            <a:r>
              <a:rPr b="1" lang="en-GB" sz="3200" spc="-1" strike="noStrike">
                <a:solidFill>
                  <a:srgbClr val="ff0000"/>
                </a:solidFill>
                <a:latin typeface="Calibri"/>
              </a:rPr>
              <a:t>expect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ities to hel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ry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16:25:42Z</dcterms:created>
  <dc:creator>Linda Ruas</dc:creator>
  <dc:description/>
  <dc:language>en-US</dc:language>
  <cp:lastModifiedBy>Linda Ruas</cp:lastModifiedBy>
  <dcterms:modified xsi:type="dcterms:W3CDTF">2014-12-29T11:39:41Z</dcterms:modified>
  <cp:revision>15</cp:revision>
  <dc:subject/>
  <dc:title>Charities and NGOs</dc:title>
</cp:coreProperties>
</file>